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774-74C3-42F5-AF8B-77A2ABA9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ds On: 2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97BF-1038-4042-84CB-A56080B8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E92-A35B-4A4D-B033-13225C41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A01-4F44-4D11-B708-F37BB9BB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314-B910-4D94-A2E0-B56049A4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26B-A77E-42A9-A2A8-F9B388DC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92E8-F440-4D24-B3F4-49D0B7FC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C7D0-1EF9-4E60-A296-27C4DB0B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268D-A14E-41D7-9C86-44E90C43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72A1-4A89-414D-A589-82188EA5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3CD-74FD-4481-8770-4FD8E769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7A1D-2C90-41F5-9E9E-1AB5A8C6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093F-6DEE-4596-B830-1497D73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09A-C14C-47CF-B15C-147C98CA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54B2-306F-48C4-B2CD-20BC2A3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047F-A0CC-4A61-8395-884451C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BB39-AC01-4C94-9564-AA40DE66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6EB3-EE93-4EDE-8FCC-369A784A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0FE2-980D-4AED-9C61-054A7138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E11-3400-4FB2-9B34-C6219164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7A5-CE3B-487D-A884-A23A1B8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35C-B747-40E6-A5AD-6390C60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3DA-7A65-47A3-B184-74524478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8B2-AD6E-4F43-9A22-E0FFB1CF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833-6257-43CE-A901-4758444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128-E7BF-4729-9B7E-3DCDAF20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E0D8-A69B-431E-9B3B-2A9717F95B1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059-756B-47AD-B214-B710578D11F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Leadership:  Data Wall Conso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747720" y="620640"/>
            <a:ext cx="78566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46200" y="2491920"/>
            <a:ext cx="5041800" cy="24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 Domains:  Leadership Ac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48000" y="5010120"/>
            <a:ext cx="5400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olidation: Learning and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GAINS_Globe_70smws"/>
          <p:cNvPicPr/>
          <p:nvPr/>
        </p:nvPicPr>
        <p:blipFill>
          <a:blip r:embed="rId1"/>
          <a:stretch/>
        </p:blipFill>
        <p:spPr>
          <a:xfrm>
            <a:off x="34920" y="549360"/>
            <a:ext cx="3359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IME Leadershi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54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PRIME Equity, Assessment, Teaching and Learning, and Curriculum Leadership indicators and leadership actions for the three stages of leadership (BLM L.1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80000" y="1908000"/>
            <a:ext cx="2260800" cy="2943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80000" y="4932360"/>
            <a:ext cx="232092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3628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the PRIME Equity, Assessment, Teaching and Learning, and Curriculum Leadership indicators and leadership actions for the three stages of leadership (BLM L.1.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1"/>
          <a:stretch/>
        </p:blipFill>
        <p:spPr>
          <a:xfrm>
            <a:off x="996840" y="4941720"/>
            <a:ext cx="2476440" cy="160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"/>
          <p:cNvPicPr/>
          <p:nvPr/>
        </p:nvPicPr>
        <p:blipFill>
          <a:blip r:embed="rId2"/>
          <a:stretch/>
        </p:blipFill>
        <p:spPr>
          <a:xfrm>
            <a:off x="3300480" y="494172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3"/>
          <a:stretch/>
        </p:blipFill>
        <p:spPr>
          <a:xfrm>
            <a:off x="5605560" y="4941720"/>
            <a:ext cx="2495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2071440"/>
            <a:ext cx="745632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green dots to identify the Leadership actions that were addressed during the Math CAMPPP Leadership focused break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8245440" y="242100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7885080" y="242100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8601120" y="242100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"/>
          <p:cNvPicPr/>
          <p:nvPr/>
        </p:nvPicPr>
        <p:blipFill>
          <a:blip r:embed="rId1"/>
          <a:stretch/>
        </p:blipFill>
        <p:spPr>
          <a:xfrm>
            <a:off x="923760" y="4834080"/>
            <a:ext cx="2476800" cy="1609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"/>
          <p:cNvPicPr/>
          <p:nvPr/>
        </p:nvPicPr>
        <p:blipFill>
          <a:blip r:embed="rId2"/>
          <a:stretch/>
        </p:blipFill>
        <p:spPr>
          <a:xfrm>
            <a:off x="3227400" y="483408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"/>
          <p:cNvPicPr/>
          <p:nvPr/>
        </p:nvPicPr>
        <p:blipFill>
          <a:blip r:embed="rId3"/>
          <a:stretch/>
        </p:blipFill>
        <p:spPr>
          <a:xfrm>
            <a:off x="5532480" y="4834080"/>
            <a:ext cx="2495520" cy="1590480"/>
          </a:xfrm>
          <a:prstGeom prst="rect">
            <a:avLst/>
          </a:prstGeom>
          <a:ln w="0">
            <a:noFill/>
          </a:ln>
        </p:spPr>
      </p:pic>
      <p:sp>
        <p:nvSpPr>
          <p:cNvPr id="113" name="Oval 10"/>
          <p:cNvSpPr/>
          <p:nvPr/>
        </p:nvSpPr>
        <p:spPr>
          <a:xfrm>
            <a:off x="8245440" y="285264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7885080" y="285264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8601120" y="285264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8245440" y="328464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7885080" y="328464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8601120" y="328464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8245440" y="371628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7885080" y="371628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8601120" y="371628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760" y="2071440"/>
            <a:ext cx="745632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blue dots to identify the Leadership actions that you wish to make happen in your school / board this com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8245440" y="242100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885080" y="242100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8601120" y="242100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"/>
          <p:cNvPicPr/>
          <p:nvPr/>
        </p:nvPicPr>
        <p:blipFill>
          <a:blip r:embed="rId1"/>
          <a:stretch/>
        </p:blipFill>
        <p:spPr>
          <a:xfrm>
            <a:off x="923760" y="4834080"/>
            <a:ext cx="2476800" cy="1609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"/>
          <p:cNvPicPr/>
          <p:nvPr/>
        </p:nvPicPr>
        <p:blipFill>
          <a:blip r:embed="rId2"/>
          <a:stretch/>
        </p:blipFill>
        <p:spPr>
          <a:xfrm>
            <a:off x="3227400" y="483408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3"/>
          <a:stretch/>
        </p:blipFill>
        <p:spPr>
          <a:xfrm>
            <a:off x="5532480" y="4834080"/>
            <a:ext cx="2495520" cy="1590480"/>
          </a:xfrm>
          <a:prstGeom prst="rect">
            <a:avLst/>
          </a:prstGeom>
          <a:ln w="0">
            <a:noFill/>
          </a:ln>
        </p:spPr>
      </p:pic>
      <p:sp>
        <p:nvSpPr>
          <p:cNvPr id="130" name="Oval 10"/>
          <p:cNvSpPr/>
          <p:nvPr/>
        </p:nvSpPr>
        <p:spPr>
          <a:xfrm>
            <a:off x="8245440" y="285264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7885080" y="285264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8601120" y="285264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8245440" y="328464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7885080" y="328464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601120" y="328464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8245440" y="371628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7885080" y="371628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8601120" y="371628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u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63960" y="3068640"/>
            <a:ext cx="29232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4503600" y="3068640"/>
            <a:ext cx="29232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5219640" y="3068640"/>
            <a:ext cx="29232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4503600" y="3573360"/>
            <a:ext cx="29232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219640" y="3573360"/>
            <a:ext cx="29232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863960" y="3573360"/>
            <a:ext cx="29232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500720" y="2565360"/>
            <a:ext cx="29196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859280" y="2565360"/>
            <a:ext cx="29232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5219640" y="2565360"/>
            <a:ext cx="29232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"/>
          <p:cNvPicPr/>
          <p:nvPr/>
        </p:nvPicPr>
        <p:blipFill>
          <a:blip r:embed="rId1"/>
          <a:stretch/>
        </p:blipFill>
        <p:spPr>
          <a:xfrm>
            <a:off x="923760" y="4581360"/>
            <a:ext cx="2476800" cy="1609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2"/>
          <a:stretch/>
        </p:blipFill>
        <p:spPr>
          <a:xfrm>
            <a:off x="3227400" y="458136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3"/>
          <a:stretch/>
        </p:blipFill>
        <p:spPr>
          <a:xfrm>
            <a:off x="5532480" y="4581360"/>
            <a:ext cx="2495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8-19T18:20:58Z</dcterms:modified>
  <cp:revision>182</cp:revision>
  <dc:subject/>
  <dc:title>Slide 1</dc:title>
</cp:coreProperties>
</file>